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FFDE-D7E6-4A0A-86E9-C7E1CFB0D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E1B-9870-46CB-9906-F3882510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A765-9D15-47F6-A606-10D998383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D7C4-962F-4497-A612-1B7F6122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8C5-F9F5-4193-A2BD-EA9C08DC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7D5-5CDF-467A-947B-5E48AD88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F70-1303-45D8-9634-67D4AD18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7F7B-F942-4985-BEF0-42842FEE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38DB-E017-46C2-8538-BB51C5852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64C6-9847-40AD-BF05-D7996C71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D213-F694-4032-AD1C-2BDDDBD3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1AA-152C-4472-B795-041EC76F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B588-7943-4FBB-ADAE-BF87FCC4EC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40EE-0EAC-4C9E-BFC1-571F9DA627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642160" cy="3384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 «ШАХМАТЫ – ШКОЛЕ»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1994 – 201</a:t>
            </a:r>
            <a:r>
              <a:rPr b="1" lang="en-US" sz="3600" spc="-1" strike="noStrike">
                <a:solidFill>
                  <a:srgbClr val="808000"/>
                </a:solidFill>
                <a:latin typeface="Times New Roman"/>
              </a:rPr>
              <a:t>9</a:t>
            </a:r>
            <a:br>
              <a:rPr sz="3600"/>
            </a:br>
            <a:br>
              <a:rPr sz="3600"/>
            </a:b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Издатель: учебно-методическое объединение «Духовное возрождение»,  г. Обнинс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47920" y="4005000"/>
            <a:ext cx="6400800" cy="2160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Автор: И.Г.Сухин, Институт стратегии развития образования РАО, </a:t>
            </a: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г. Моск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204E5-6584-4902-8F17-A7276FCDCD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первы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первы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4, №9) и «Вестник образования» (1994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 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перв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1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1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DA8F-BA38-43B6-B421-B3AD3937EC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Учебник для начальной школы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8000" y="2060280"/>
            <a:ext cx="3240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Учебник для начальной школы, первый год обучения» (1998, 2009, 2011-2012, 2014, 2017-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2018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 2009 г. издаётся в двух частя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Рисунок 6" descr="Сухин_Шахматы_1год_учебник2017_1часть20пр.jpg"/>
          <p:cNvPicPr/>
          <p:nvPr/>
        </p:nvPicPr>
        <p:blipFill>
          <a:blip r:embed="rId1"/>
          <a:stretch/>
        </p:blipFill>
        <p:spPr>
          <a:xfrm>
            <a:off x="3564000" y="2374920"/>
            <a:ext cx="2644560" cy="35751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7" descr="Сухин_Шахматы_1год_учебник2017_2часть20пр.jpg"/>
          <p:cNvPicPr/>
          <p:nvPr/>
        </p:nvPicPr>
        <p:blipFill>
          <a:blip r:embed="rId2"/>
          <a:stretch/>
        </p:blipFill>
        <p:spPr>
          <a:xfrm>
            <a:off x="6372360" y="2349360"/>
            <a:ext cx="263664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09BA-BCC7-4060-9031-08E48B503B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ый в мировой практике учебник  шахматной игры, написанный специально для начальной общеобразовате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чебник содержит самый элементарный шахматный материал, который закрепляется большим количеством уникальных дидактических игр и заданий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смотря на то, что учебник создавался для первого класса начальной школы, его можно использовать на начальном этапе обучения и в других классах школы 1-й ступени, а также в подготовительной к школе группе детского сада. Это обеспечивается тем, что в каждом типе дидактических заданий и игр есть задачи разного уровня сложности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входит в учебно-методический комплект «Шахматы, первый год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7028-A515-4E4A-AA4C-1C9BAE0F483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Учусь и учу» (1999, 2011, 2015, 2019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5" descr="ДВ_обложка_1год-пособие-2019_20пр.jpg"/>
          <p:cNvPicPr/>
          <p:nvPr/>
        </p:nvPicPr>
        <p:blipFill>
          <a:blip r:embed="rId1"/>
          <a:stretch/>
        </p:blipFill>
        <p:spPr>
          <a:xfrm>
            <a:off x="5410080" y="1916280"/>
            <a:ext cx="283392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A27A-991A-4592-A857-C46307710E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книга</a:t>
            </a:r>
            <a:r>
              <a:rPr b="1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ервое в мировой практике шахматное пособие для учителей начальных классов, не обладающих большими знаниями в области шахмат. Данное пособие разработано к учебнику для первого года обучения «Шахматы, первый год, или Там клетки черно-белые чудес и тайн полны»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подробно изложена методика проведения каждого урока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В начале каждой главы-урока учителю объясняются необходимые шахматные сведения. Обилие в пособии занимательных заданий, увлекательных дидактических игр позволит педагогу сделать каждое занятие праздником для ребят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нига адресована учителям начальных классов, воспитателям подготовительных групп детского сада, тренерам-преподавателям, а также родителям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F82FB-A2B2-4C4B-B280-4F7F12650CD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527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1» (2004, 2006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3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Рабочая тетрадь: Часть 2» (2005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014, 2016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5" descr="Сухин_Шахматы_1год_рабтетрадь2017_1часть15пр.jpg"/>
          <p:cNvPicPr/>
          <p:nvPr/>
        </p:nvPicPr>
        <p:blipFill>
          <a:blip r:embed="rId1"/>
          <a:stretch/>
        </p:blipFill>
        <p:spPr>
          <a:xfrm>
            <a:off x="3551400" y="2708280"/>
            <a:ext cx="2525400" cy="34750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Сухин_Шахматы_1год_рабтетрадь2017_2часть15пр.jpg"/>
          <p:cNvPicPr/>
          <p:nvPr/>
        </p:nvPicPr>
        <p:blipFill>
          <a:blip r:embed="rId2"/>
          <a:stretch/>
        </p:blipFill>
        <p:spPr>
          <a:xfrm>
            <a:off x="6372360" y="2698920"/>
            <a:ext cx="25207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58C1-328E-4167-A68D-CF1FE2AAA2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первый год», учебнику  «Шахматы, первый год, или Там клетки чёрно-белые чудес и тайн полны», пособию для учителя «Шахматы, первы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A334-D354-4795-81FB-3BD6A2D426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первый год, или Там клетки чёрно-белые чудес и тайн полны: Тетрадь для проверочных работ» (2005-2006, 2008, 2010-2011, 2013, 2014, 2016-201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Рисунок 6" descr="ДВ_обложка_1год-тетрадь_провер-2019_20пр.jpg"/>
          <p:cNvPicPr/>
          <p:nvPr/>
        </p:nvPicPr>
        <p:blipFill>
          <a:blip r:embed="rId1"/>
          <a:stretch/>
        </p:blipFill>
        <p:spPr>
          <a:xfrm>
            <a:off x="5580000" y="1825560"/>
            <a:ext cx="28796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5B15-7211-48AE-9AB8-D5E33B04C6D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ждая из 15-ти проверочных работ содержит 16 вопросов (заданий), рассчитана на 10-1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FBFD-17CF-4B0C-8B36-48C6E35F4C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первы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4800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Первый год обучения. 1500 малофигурных позиций» (2012, 2016, 2017, 2019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ечание: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Первоначальное название задачника - «Шахматы, первый год. Задачник, мат в один ход. 1500 малофигурных позиций» (2006-2007, 2009, 2010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Рисунок 5" descr="ДВ_обложка_1год-задачник2019_20пр.jpg"/>
          <p:cNvPicPr/>
          <p:nvPr/>
        </p:nvPicPr>
        <p:blipFill>
          <a:blip r:embed="rId1"/>
          <a:stretch/>
        </p:blipFill>
        <p:spPr>
          <a:xfrm>
            <a:off x="5483160" y="1916280"/>
            <a:ext cx="29764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8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AE4B0-4D8F-4D90-8C7F-E6130C387B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Федеральный курс</a:t>
            </a:r>
            <a:r>
              <a:rPr b="1" lang="en-US" sz="3200" spc="-1" strike="noStrike">
                <a:solidFill>
                  <a:srgbClr val="808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«Шахматы - школе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6781680" y="3618000"/>
            <a:ext cx="2343240" cy="3240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7" descr="Сухин_Шахматы_1год_учебник2017_1часть20пр.jpg"/>
          <p:cNvPicPr/>
          <p:nvPr/>
        </p:nvPicPr>
        <p:blipFill>
          <a:blip r:embed="rId2"/>
          <a:stretch/>
        </p:blipFill>
        <p:spPr>
          <a:xfrm>
            <a:off x="2178000" y="3621240"/>
            <a:ext cx="2394000" cy="32367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Сухин_Шахматы_2год_учебник2017_1часть20пр.jpg"/>
          <p:cNvPicPr/>
          <p:nvPr/>
        </p:nvPicPr>
        <p:blipFill>
          <a:blip r:embed="rId3"/>
          <a:stretch/>
        </p:blipFill>
        <p:spPr>
          <a:xfrm>
            <a:off x="4541760" y="538200"/>
            <a:ext cx="2262240" cy="310680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108000" y="623880"/>
            <a:ext cx="20876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B35D-6BBD-4E34-AB9F-90046DBD5A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мение объявить противнику мат – основа шахматного искусства. Однако в море шахматной литературы незаслуженно забытой оказалась важнейшая ступень обучения – задачи на мат в один ход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задачник включён материал, соответствующий Программе «Шахматы, первый год», учебнику  для школьников «Шахматы, первый год, или Там клетки чёрно-белые чудес и тайн полны» и пособию для учителя «Шахматы, первый год, или Учусь и учу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сборнике 1500 задач: 1242 чётко структурированные трёх-, четырёх- и пятифигурные позиции-схемы, охватывающие все типичные матовые конструкции для данного количества фигур и практикум из 258 учебных положений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51AC-759D-4D5A-964A-38B02EF6185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второ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10480" cy="56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второ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5, №8) и «Вестник образования» (1995, №9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двух лет обучения «Шахматы, первый год» и «Шахматы, второй год» были приведены в сборнике «Программы общеобразовательных учреждений. Начальные классы (1 – 4)» (М.: Просвещение, 1996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Интернете программа второго года обучения расположена по адресам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chess555.narod.ru/2god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http://suhin.narod.ru/chessprogr2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0DBDB-1D04-41B4-A7D5-58874725B2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5960" y="1916280"/>
            <a:ext cx="34160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Учебник для начальной школы, второй год обучения» (2003, 2007, 2008-2009, 2011, 2014, 2017, 2019).  С 2008 года издаётся в двух ча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Рисунок 6" descr="Сухин_Шахматы_2год_учебник2017_1часть20пр.jpg"/>
          <p:cNvPicPr/>
          <p:nvPr/>
        </p:nvPicPr>
        <p:blipFill>
          <a:blip r:embed="rId1"/>
          <a:stretch/>
        </p:blipFill>
        <p:spPr>
          <a:xfrm>
            <a:off x="3276720" y="2335320"/>
            <a:ext cx="2735280" cy="375768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7" descr="Сухин_Шахматы_2год_учебник2017_2часть_20пр.jpg"/>
          <p:cNvPicPr/>
          <p:nvPr/>
        </p:nvPicPr>
        <p:blipFill>
          <a:blip r:embed="rId2"/>
          <a:stretch/>
        </p:blipFill>
        <p:spPr>
          <a:xfrm>
            <a:off x="6284880" y="2349360"/>
            <a:ext cx="275112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3FED-4F09-430B-807E-9D8BA547124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ом «Шахматы, первый год, или Там клетки чёрно-белые чудес и тайн полны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второго класса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второй год, или Играем и выигрываем» разработано методическое пособие для учителя (и родителей) «Шахматы: второй год, или Учусь и учу»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E042-7CC5-41ED-BC91-484AC4836F0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второй год, или Учусь и учу» (2004, 2008, 2012, 20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1"/>
          <a:stretch/>
        </p:blipFill>
        <p:spPr>
          <a:xfrm>
            <a:off x="5334120" y="2057400"/>
            <a:ext cx="27954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7769-6019-401C-AF83-03F1CFB453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данном пособии объясняется, как учителю с минимальной шахматной подготовкой проводить занятия с учениками второго года обучения по учебнику «Шахматы, второй год, или Играем и выигрываем». Пособие будет интересно и родителям, помогающим своим детям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, сделаны необходимые разъяснения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детально описывается каждый из 33 уроков, приводится большая часть заданий из учебника с решениям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C32D-7CD9-4932-BDC4-9E236F1B3B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320" y="1916280"/>
            <a:ext cx="3558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1» (2005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Рабочая тетрадь: Часть 2» (2006-2007, 2009-2010, 2012-2013, 2015, 2017-2019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1"/>
          <a:stretch/>
        </p:blipFill>
        <p:spPr>
          <a:xfrm>
            <a:off x="3851280" y="2673360"/>
            <a:ext cx="2449440" cy="334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ДВ_Рабтетрадь_2класс_2часть_20пр.jpg"/>
          <p:cNvPicPr/>
          <p:nvPr/>
        </p:nvPicPr>
        <p:blipFill>
          <a:blip r:embed="rId2"/>
          <a:stretch/>
        </p:blipFill>
        <p:spPr>
          <a:xfrm>
            <a:off x="6516720" y="2678040"/>
            <a:ext cx="244800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2489-7F20-4155-AC95-26F071B902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второй год», учебнику  для школьников «Шахматы, второй год, или Играем и выигрываем» и пособию для учителя «Шахматы, второй год, или Учусь и учу»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второго года обучения в любом классе начальной школы. В случае применения тетрадей в первом классе не обязательно выполнять задания, связанные с использованием шахматной нотации и записью, а решения большей части задач можно показывать только стрелкам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808A-F896-4FAF-9449-C8234E12B3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второй год, или Играем и выигрываем: Тетрадь для проверочных работ» (2008, 2013, 2015, 2018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9" descr="D:\Мои документы\Мои рисунки\Новые фото книг\ДВ_2год_провер30.jpg"/>
          <p:cNvPicPr/>
          <p:nvPr/>
        </p:nvPicPr>
        <p:blipFill>
          <a:blip r:embed="rId1"/>
          <a:stretch/>
        </p:blipFill>
        <p:spPr>
          <a:xfrm>
            <a:off x="5076720" y="1974960"/>
            <a:ext cx="25909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B6D5-AC3D-4628-9D02-99591489F6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второ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54A1-43EC-4F59-BEFF-EFF2BDD9F4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60-е годы ХХ века было установлено, что </a:t>
            </a:r>
            <a:r>
              <a:rPr b="1" i="1" lang="ru-RU" sz="2200" spc="-1" strike="noStrike">
                <a:solidFill>
                  <a:srgbClr val="00cc99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121BA-0842-4297-84B1-4FCD7AAE08A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второ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Второй год обучения» (2012, 2015, 20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7" descr="D:\Мои документы\Задачник_2_год_25пр.jpg"/>
          <p:cNvPicPr/>
          <p:nvPr/>
        </p:nvPicPr>
        <p:blipFill>
          <a:blip r:embed="rId1"/>
          <a:stretch/>
        </p:blipFill>
        <p:spPr>
          <a:xfrm>
            <a:off x="5003640" y="1887480"/>
            <a:ext cx="300996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2C7B-4FFD-459E-8D94-9DC5A99E97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8000"/>
                </a:solidFill>
                <a:latin typeface="Times New Roman"/>
              </a:rPr>
              <a:t>УМК «Шахматы, третий г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1. Программа «Шахматы, третий год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первые опубликована в журналах «Начальная школа» (1997, №10) и Образование» (1998, №4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были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трёх лет обучения вышли в 2010, 2011, 2013, 2016 и 2019 году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.Г.Сухин «Программы курса «Шахматы – школе»: Для начальных классов общеобразовательных учреждений» (Обнинск: Духовное возрождение, 2010, 2011, 2013, 2016. – 40 с.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Интернете программа третьего года обучения расположена по адрес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ttp://chess555.narod.ru/3god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http://suhin.narod.ru/chessprogr3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 2019 году впервые изданы рабочие программы кур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EC50-8340-435F-9EB4-95288F9D3A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2-3. Учебник для начальной школы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320" y="1844280"/>
            <a:ext cx="32716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Учебн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Учебник для начальной школы, третий год обучения: В 2-х частях» (2008, 2014, 2018, 2019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6" descr="D:\Мои документы\Мои рисунки\Копия Обложки книг для ШН\Учебник 3 год.jpg"/>
          <p:cNvPicPr/>
          <p:nvPr/>
        </p:nvPicPr>
        <p:blipFill>
          <a:blip r:embed="rId1"/>
          <a:stretch/>
        </p:blipFill>
        <p:spPr>
          <a:xfrm>
            <a:off x="3564000" y="2525760"/>
            <a:ext cx="2525760" cy="3495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6" descr="ДВ_3год_учебник_Ч2_20пр.jpg"/>
          <p:cNvPicPr/>
          <p:nvPr/>
        </p:nvPicPr>
        <p:blipFill>
          <a:blip r:embed="rId2"/>
          <a:stretch/>
        </p:blipFill>
        <p:spPr>
          <a:xfrm>
            <a:off x="6432480" y="2492280"/>
            <a:ext cx="25621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B511-8962-40BC-B94E-C0DFF0857F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нный учебник продолжает курс начального обучения шахматной игре и следует за учебниками «Шахматы, первый год, или Там клетки чёрно-белые чудес и тайн полны» и «Шахматы, второй год, или Играем и выигрываем». Теория шахматной игры закрепляется при помощи большого количества дидактических заданий и игр, с преимущественным использованием иллюстративного материала содержательного характера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чебник предназначен для третьего класса начальной школы, однако может быть использован на занятиях в других классах. Это обеспечивается тем, что в каждом разделе учащимся предлагаются как простые, так и сложные задания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 учебнику «Шахматы, третий год, или Тайны королевской игры» разработано методическое пособие для учителя (и родителей) «Шахматы, третий год, или Учусь и учу»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19E7-FDD3-4555-972B-2EA6F3733D0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4. Пособие для учителя, 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собие для учител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Учусь и учу» (2009, 2013, 20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D:\Мои документы\Уучь и учу 3 год25пр.jpg"/>
          <p:cNvPicPr/>
          <p:nvPr/>
        </p:nvPicPr>
        <p:blipFill>
          <a:blip r:embed="rId1"/>
          <a:stretch/>
        </p:blipFill>
        <p:spPr>
          <a:xfrm>
            <a:off x="5181480" y="1981080"/>
            <a:ext cx="2846520" cy="42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EB32-D4DF-4DB7-B758-D6F917B94A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бъясняется, как учителю с минимальной шахматной подготовкой проводить занятия с учениками третьего года обучения по учебнику «Шахматы, третий год, или Тайны королевской игры». Самое серьёзное внимание уделяется нестандартным занимательным заданиям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собие будет полезно и родителям, помогающим своим детям  освоить основы шахматной игры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ля педагогов, знакомых с шахматами только по материалам УМК «Шахматы, первый год» и «Шахматы, второй год», сделаны необходимые разъяснения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пособии описывается каждый из 66 уроков, приводится большая часть заданий из учебника с решениями.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B8C8-899F-4EE2-885E-01CA0925A0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5-6. Рабочие тетради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0920" y="1980720"/>
            <a:ext cx="3421080" cy="47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бочие тетрад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1» (2010, 2012, 2014-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Рабочая тетрадь: Часть 2» (2010, 2012, 2014, 2015, 2018, 20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1"/>
          <a:stretch/>
        </p:blipFill>
        <p:spPr>
          <a:xfrm>
            <a:off x="3419640" y="2359080"/>
            <a:ext cx="2736720" cy="3516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ДВ_3год_Рабочаятетрадь2Ч-25пр.jpg"/>
          <p:cNvPicPr/>
          <p:nvPr/>
        </p:nvPicPr>
        <p:blipFill>
          <a:blip r:embed="rId2"/>
          <a:stretch/>
        </p:blipFill>
        <p:spPr>
          <a:xfrm>
            <a:off x="6291360" y="2349360"/>
            <a:ext cx="267336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941D-BD4E-4861-8BDE-9E4ED7BC99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содержат занимательные задания, которые помогут ребёнку освоить основы шахматной игры. Работая с тетрадями, ребёнок будет помогать рассеянному художнику: исправлять его ошибки, отгадывать загадки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 рабочие тетради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и предназначены для третьего года обучения в любом классе началь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56CB7-0BA9-46CC-BF29-E939A317EA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7. Тетрадь для проверочных работ, </a:t>
            </a:r>
            <a:br>
              <a:rPr sz="3600"/>
            </a:b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981080"/>
            <a:ext cx="34560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традь для проверочных рабо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Шахматы, третий год, или Тайны королевской игры: Тетрадь для проверочных работ» (2011, 2013, 2014, 2016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6" descr="D:\Мои документы\Проверочная тетрадь3год25пр.jpg"/>
          <p:cNvPicPr/>
          <p:nvPr/>
        </p:nvPicPr>
        <p:blipFill>
          <a:blip r:embed="rId1"/>
          <a:stretch/>
        </p:blipFill>
        <p:spPr>
          <a:xfrm>
            <a:off x="4984920" y="1916280"/>
            <a:ext cx="282708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150C-7A59-4D19-9BCD-E85ABA0EFA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предназначена для третьего года обучения в любом классе начальной школы. Каждая из 15-ти проверочных работ рассчитана на 15-25 минут и расположена на отдельном листе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новная задача издания - обеспечить текущий контроль после прохождения каждой крупной темы учебной программы. Возможны два равноценных варианта проведения контроля: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. Перед каждой проверочной работой учащимся выдаются сами тетради.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 Ученикам выдаются только листы с текущей проверочной работой, заранее вырезанные из тетради. Поэтому на каждом листе есть графы "номер школы и класса", "фамилия ученика" и т.п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традь может быть использована на различных этапах учебного процесса для фронтальной, групповой, индивидуальной работы, для занятий в парах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42A9-0D27-4025-A475-580371E348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вается в младшем возрасте, но в общеизвестных системах обучения она целенаправленно не формируется. По этой причин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способность действовать «в уме».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759F-186C-484D-A853-D6929CC518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8. Задачник, </a:t>
            </a:r>
            <a:br>
              <a:rPr sz="4400"/>
            </a:b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третий год обу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дачни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Задачи к курсу «Шахматы - школе». Третий год обучения» (20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Object 6"/>
          <p:cNvGraphicFramePr/>
          <p:nvPr/>
        </p:nvGraphicFramePr>
        <p:xfrm>
          <a:off x="5076720" y="1909800"/>
          <a:ext cx="3024360" cy="43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909800"/>
                    <a:ext cx="3024360" cy="43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BD9A6-A4D6-4753-BFE0-1DD3A53C49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задачник третьего года обучения включён материал, соответствующий Программе «Шахматы, третий год», учебнику  для школьников «Шахматы, третий год, или Тайны королевской игры» и пособию для учителя «Шахматы, третий год, или Учусь и учу».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Презентацию подготовил в 2010 году: И.Г.Сухин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Коррекция от 0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.09.2019.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0D44-B699-45D1-B67F-FD5D05EE357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6091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8000"/>
                </a:solidFill>
                <a:latin typeface="Times New Roman"/>
              </a:rPr>
              <a:t>Рабочие программ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Шахматы – школе. Рабочие программ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-4 годы обучения (20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5" descr="Рабочие_программы_Шахматы-школе2019-450кб_40пр.jpg"/>
          <p:cNvPicPr/>
          <p:nvPr/>
        </p:nvPicPr>
        <p:blipFill>
          <a:blip r:embed="rId1"/>
          <a:stretch/>
        </p:blipFill>
        <p:spPr>
          <a:xfrm>
            <a:off x="4754520" y="1494000"/>
            <a:ext cx="327348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D2BAA-2F8B-40B0-A0D7-DF69C04092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79280" y="333360"/>
            <a:ext cx="87854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курса "Шахматы – школе" реализуют системно-деятельностный подход и разработаны в соответствии с требованиями Федерального государственного образовательного стандарта начального общего образования и основной образовательной программы начального общего образования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раммы адресованы в первую очередь учителям общеобразовательных организаций и ориентированы на достижение значимой для начальной школы цели – развития у детей фундаментальной способности действовать "в уме" с использованием инновационной здоровьесберегающей шахматно-задачной технологии обучения и системы занимательных дидактических заданий и игр. При реализации данных программ формируются широкие межпредметные связи с основными дисциплинами начальной школ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учный подход, заложенный в программах курса "Шахматы – школе", обеспечил России ряд приоритетов в области шахматного образования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D3E2C-E8B2-4F85-8938-DD1DDB862F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00"/>
                </a:solidFill>
                <a:latin typeface="Times New Roman"/>
              </a:rPr>
              <a:t>Федеральный курс «Шахматы – школе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в себя следующие учебно-методические комплекты (УМК) :  УМК «Шахматы, первый год», УМК «Шахматы, второй год», УМК «Шахматы, третий год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первый год» входят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Программа «Шахматы, первый год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-3. Учебник «Шахматы, первый год, или Там клетки чёрно-белые чудес и тайн полны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первый год, или Учусь и учу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первый год, или Там клетки чёрно-белые чудес и тайн полны: Рабочая тетрадь: Часть 1», «…Часть 2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первый год, или Там клетки чёрно-белые чудес и тайн полны: Тетрадь для проверочных работ»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. Первый год обучения. 1500 малофигурных позиций»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CC89-199B-4F2E-BBD5-2783E8D750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4568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второ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второ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второй год, или Играем и выигрываем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второй год, или Учусь и учу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второй год, или Играем и выигрываем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второй год, или Играем и выигрываем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Второ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8000"/>
                </a:solidFill>
                <a:latin typeface="Times New Roman"/>
              </a:rPr>
              <a:t>В УМК «Шахматы, третий год» входят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Программа «Шахматы, третий год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-3. Учебник «Шахматы, третий год, или Тайны королевской игры: Часть 1», «…Часть 2»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. Пособие для учителя «Шахматы, третий год, или Учусь и учу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-6. Рабочие тетради «Шахматы, третий год, или Тайны королевской игры: Рабочая тетрадь: Часть 1», «…Часть 2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. Тетрадь для проверочных работ «Шахматы, третий год, или Тайны королевской игры: Тетрадь для проверочных работ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8. Задачник «Задачи к курсу «Шахматы - школе»: Третий год обучения»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9780-714A-4E29-89E4-078BC1792A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08080"/>
              </a:solidFill>
              <a:latin typeface="Times New Roman"/>
            </a:endParaRPr>
          </a:p>
        </p:txBody>
      </p:sp>
      <p:pic>
        <p:nvPicPr>
          <p:cNvPr id="66" name="Picture 1026" descr="D:\Мои документы\1god_progr.jpg"/>
          <p:cNvPicPr/>
          <p:nvPr/>
        </p:nvPicPr>
        <p:blipFill>
          <a:blip r:embed="rId1"/>
          <a:stretch/>
        </p:blipFill>
        <p:spPr>
          <a:xfrm>
            <a:off x="1547640" y="1916280"/>
            <a:ext cx="6110640" cy="44258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8000"/>
                </a:solidFill>
                <a:latin typeface="Times New Roman"/>
              </a:rPr>
              <a:t>Программы курс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20:28:55Z</dcterms:created>
  <dc:creator>suhin</dc:creator>
  <dc:description/>
  <dc:language>en-US</dc:language>
  <cp:lastModifiedBy>home</cp:lastModifiedBy>
  <dcterms:modified xsi:type="dcterms:W3CDTF">2019-09-08T07:59:59Z</dcterms:modified>
  <cp:revision>363</cp:revision>
  <dc:subject/>
  <dc:title>И.Г.Сухин</dc:title>
</cp:coreProperties>
</file>